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dt" idx="2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40D5-B27C-4E0E-96B8-6A79DF1A6C7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move the slide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ftr" idx="2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 type="sldNum" idx="2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A7C7-7A59-4016-ACCC-2F6057E3C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B67C-F38E-4BD7-B48E-E1C757557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6756-C878-4FE1-AABD-F0E2FCE6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EF03-CDA6-4B10-BA0C-6840AF1B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CCD7E5-9132-47BA-8535-6558EE58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0B416E-B7C7-4E15-A825-25100436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E3E7D9-3C7E-4B98-B3A4-792E7320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12906A-5FF2-4170-89CE-DA6BE016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A9CFDA-04B5-4E3B-ADE7-B78DAD83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630B68-0A0C-414B-A1F8-56EC3D3D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3F62AF-6F3C-4D55-8A98-28CC339B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3AA53E-823E-4668-9056-8074DCB28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CE4E69-E227-4769-80CA-52BAE0D33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9782-AEB4-4A31-8E12-1BFD6A5DB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82AC-43C0-486A-8C73-643B8EB16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3903-0CF0-49F1-9144-08697D60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415E-F3ED-4151-8BEC-1D6815E2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40E1B2-0E48-4DF4-B995-6A30C1F12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5EA122-6732-4E75-86D4-BDF0F54F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63F9B4-17A3-4ADA-BF7C-2EF8B91A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F9D2-DC7A-4D9B-94CC-447B2BE7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D2C06B-7B74-4979-B862-6A0F9D05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6EEC77-CAB9-471C-AE3F-BD655EE1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596F58-417F-45AF-BAB7-AEF76EB8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2DC3B9-85C9-4DF9-90DF-ACBD5589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1D3F62-0442-45B6-B407-060CFE22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885F20-96B7-4090-8295-7C3CDA4B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7C1E54-8FD1-48A0-AB2F-1DFBBF8D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97A764-5105-4DE9-BDA4-A43F54054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2D2D12-A665-4D30-B06C-7F4E80247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AA4D9A-29C6-4349-B455-B0C9D6D4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D45C-5EB5-4F22-9DFB-0D848B93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A024A1-50A7-437A-94BA-CD8C8876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255939-755C-4FD9-88D8-B5FB871F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66577A-3AB2-4EFB-8CE9-6DF7324C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80815A-70CA-4D47-87FE-7509D588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A079A2-6BAA-4214-98A5-43C6B118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86090A-632F-4B03-B8F9-E17A07AB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AD653C-E744-4B32-9894-194989B4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85538C-93FF-4A4D-BCBA-153E26FB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E3B42B-C0A4-4F4B-8795-E7E2344F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158604-D14B-409B-B6F4-0119D42FB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678E-485B-4CC0-92FA-CE5B1711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34FEEF-9CA7-46D1-BD24-4BE874ED7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4E8BE0-EEBF-47C0-86CB-FD677ED23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B2F251-9F88-4737-B9DF-265EE0B8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2C91A2-E91F-484D-BE83-F75295B5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71839D-66BE-480F-A18D-81AA28CD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252744-9990-433E-ACC9-E270CC61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511107-4CAD-475F-B00D-9BCBEA89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4C1D4F-D531-4CF9-B352-A41C184D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A11A20-BFB8-4EED-8643-03409840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0B7D94-2738-4EDB-A061-EDA9DD2F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F9AE-5CED-4A8D-BE37-DEA0A520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CC2060-9808-48A3-A581-D205AB16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63DFBE-1F2E-4860-BAF2-31F3759AD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0F165A-AFB5-4678-A622-A7CA07CFF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D8E83F-93E5-4A0B-94AE-DC29FE2D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BA534F-006C-49E0-8E4B-A6F5AAFD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51BB09-D142-4DCE-BDFB-D79DB7A9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ECDC3C-E3F7-4FF9-AA54-B2017126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4B5054-6F34-4219-A20E-2B4AA977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2DD73F-DD63-460D-BC0D-629ECF1D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2A30BB-9C79-4A72-B93B-89E5A316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F45D-FBCA-463B-AA1A-2C146903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01C9FA-F2EF-4458-AAF3-55D587F6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7BE78A-5ECF-4ED2-A9F7-301ED1E4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B57CA8-F621-4404-B4E6-2C0B7932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AF924E-1F43-4E54-8C6F-C2683EAD1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8D14CF-206D-40C1-8D7E-568625BCB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F5274F-62FE-4267-A8C1-0C25DCD7B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D00F29-2748-4A12-917B-47F213A2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A09713-0E1F-49FD-AFD9-F2B37E6E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1B2AB3-2B2F-4AC2-B1AD-D25A3902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DD60B0-2B6F-4C46-B4BE-BB4ABAC8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59C2-6665-4985-B4B2-A1275D60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0C0B42-87DC-4EC6-9D88-4B66D877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308A29-33FD-4B2F-A0AE-D7DE8B8C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4F8BB3-AEED-4B5D-9F9D-AE56426C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E2E9BE-B3C7-45D2-B0FC-A8C16271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D9239D-DEC4-4C26-AD7A-D1BD59F4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5333EE-CED0-4781-82DA-1C031082D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33B73D-6B05-4FCC-9DA7-7411459D9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084958-2D6F-4835-899D-4304C5123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1233FF-67E7-497C-8168-28DE73B6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3DDF26-98F4-49E7-B415-F7A6EFD4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89BC-6DFA-4492-8E46-73BC3772E8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9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0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4432-EE14-4C0B-9565-71DB7B2A35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DC21-0ED5-41EA-9049-52EBA577F7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4495320" y="635652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1966680" y="635652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9443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2804-DCE2-471F-B958-463DD12A85A6}" type="slidenum">
              <a:rPr b="0" lang="en-US" sz="1200" spc="-1" strike="noStrike">
                <a:solidFill>
                  <a:srgbClr val="19443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7AA8-2563-4D02-9A1A-F5282CD774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495320" y="635652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1966680" y="635652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9443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2F9F-1ED4-42DB-8B2C-7C84B0115670}" type="slidenum">
              <a:rPr b="0" lang="en-US" sz="1200" spc="-1" strike="noStrike">
                <a:solidFill>
                  <a:srgbClr val="19443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51CF-3D59-49F0-8686-AA84E7CF4F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Book Antiqua"/>
              </a:rPr>
              <a:t>What the routines are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80520" y="1904760"/>
            <a:ext cx="81486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Factor Label Friday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13960" indent="-488160">
              <a:spcBef>
                <a:spcPts val="601"/>
              </a:spcBef>
              <a:buClr>
                <a:srgbClr val="fbf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fdab"/>
                </a:solidFill>
                <a:latin typeface="Book Antiqua"/>
              </a:rPr>
              <a:t>Weekly quizz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8520" indent="-488520"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Current Events Research Article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13960" indent="-488160">
              <a:spcBef>
                <a:spcPts val="601"/>
              </a:spcBef>
              <a:buClr>
                <a:srgbClr val="fbf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fdab"/>
                </a:solidFill>
                <a:latin typeface="Book Antiqua"/>
              </a:rPr>
              <a:t>Bi-weekly (every TWO weeks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8520" indent="-488520"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Chapter Concept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13960" indent="-488160">
              <a:spcBef>
                <a:spcPts val="601"/>
              </a:spcBef>
              <a:buClr>
                <a:srgbClr val="fbf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fdab"/>
                </a:solidFill>
                <a:latin typeface="Book Antiqua"/>
              </a:rPr>
              <a:t>For every chapt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8520" indent="-488520"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TED Talk Discussion Leader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13960" indent="-488160">
              <a:spcBef>
                <a:spcPts val="601"/>
              </a:spcBef>
              <a:buClr>
                <a:srgbClr val="fbf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fdab"/>
                </a:solidFill>
                <a:latin typeface="Book Antiqua"/>
              </a:rPr>
              <a:t>On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4640" y="2236680"/>
            <a:ext cx="76122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Book Antiqua"/>
              </a:rPr>
              <a:t>2. Environmental Literacy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64640" y="3617640"/>
            <a:ext cx="76122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4431"/>
                </a:solidFill>
                <a:latin typeface="Book Antiqua"/>
              </a:rPr>
              <a:t>(Biweekly: every TWO weeks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Book Antiqua"/>
              </a:rPr>
              <a:t>Environmental Literacy</a:t>
            </a:r>
            <a:br>
              <a:rPr sz="4800"/>
            </a:br>
            <a:r>
              <a:rPr b="1" lang="en-US" sz="4800" spc="-1" strike="noStrike">
                <a:solidFill>
                  <a:srgbClr val="194431"/>
                </a:solidFill>
                <a:latin typeface="Book Antiqua"/>
              </a:rPr>
              <a:t>PURPOSE: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Book Antiqua"/>
              </a:rPr>
              <a:t>Research &amp; make connections to current event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Book Antiqua"/>
              </a:rPr>
              <a:t>Within the last 2 months</a:t>
            </a:r>
            <a:endParaRPr b="0" lang="en-US" sz="23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Book Antiqua"/>
              </a:rPr>
              <a:t>Learn what topics excite and interest you 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Book Antiqua"/>
              </a:rPr>
              <a:t>Increase our content diversity 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Book Antiqua"/>
              </a:rPr>
              <a:t>Practice critical thinking skills 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Book Antiqua"/>
              </a:rPr>
              <a:t>Explore resources available to you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Book Antiqua"/>
              </a:rPr>
              <a:t>Become an expert &amp; share your knowledge as a leader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Book Antiqua"/>
              </a:rPr>
              <a:t>Environmental Literacy</a:t>
            </a:r>
            <a:br>
              <a:rPr sz="4800"/>
            </a:br>
            <a:r>
              <a:rPr b="1" lang="en-US" sz="4800" spc="-1" strike="noStrike">
                <a:solidFill>
                  <a:srgbClr val="194431"/>
                </a:solidFill>
                <a:latin typeface="Book Antiqua"/>
              </a:rPr>
              <a:t>METHOD: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0" y="18284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Explore an approved website &amp; pick a topic that is related (even tangentially) to EnviSci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Summarize the article and evaluate it criticall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Prepare and give a short(5 to 10 minute) multimedia presentation to your clas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Post your summary on our class wiki for others to learn from &amp; comment on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Book Antiqua"/>
              </a:rPr>
              <a:t>Approved Source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BBC  Science &amp; Environment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ffffff"/>
                </a:solidFill>
                <a:uFillTx/>
                <a:latin typeface="Book Antiqua"/>
              </a:rPr>
              <a:t>http://www.bbc.co.uk/news/science_and_environment/</a:t>
            </a:r>
            <a:r>
              <a:rPr b="1" lang="en-US" sz="23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Environmental News Network: 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ffffff"/>
                </a:solidFill>
                <a:uFillTx/>
                <a:latin typeface="Book Antiqua"/>
              </a:rPr>
              <a:t>http://www.enn.com/</a:t>
            </a:r>
            <a:endParaRPr b="0" lang="en-US" sz="23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National Geographic: Environment News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ffffff"/>
                </a:solidFill>
                <a:uFillTx/>
                <a:latin typeface="Book Antiqua"/>
              </a:rPr>
              <a:t>http://news.nationalgeographic.com/news/environment.html</a:t>
            </a:r>
            <a:endParaRPr b="0" lang="en-US" sz="23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Emerging Nanotechnologies (Ethics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http://www.nanotechproject.org/topics/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87631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Book Antiqua"/>
              </a:rPr>
              <a:t>Environmental Literacy</a:t>
            </a:r>
            <a:br>
              <a:rPr sz="4800"/>
            </a:br>
            <a:r>
              <a:rPr b="1" lang="en-US" sz="4000" spc="-1" strike="noStrike">
                <a:solidFill>
                  <a:srgbClr val="194431"/>
                </a:solidFill>
                <a:latin typeface="Book Antiqua"/>
              </a:rPr>
              <a:t>TIMELINE &amp; REQUIREMENTS:</a:t>
            </a:r>
            <a:endParaRPr b="0" lang="en-US" sz="40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80520" y="19810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Every studen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presents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 &amp;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comments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 on a peer’s presentatio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every two weeks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014120" indent="-342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Two students present each da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You need to post your summary within 24 hours on the websit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71760" indent="-32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Bonus points if it’s relevant to the present unit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671760" indent="-32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Optional extension for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Book Antiqua"/>
              </a:rPr>
              <a:t>publication in a local newspaper</a:t>
            </a: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; more details later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87631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Book Antiqua"/>
              </a:rPr>
              <a:t>Environmental Literacy</a:t>
            </a:r>
            <a:br>
              <a:rPr sz="4800"/>
            </a:br>
            <a:r>
              <a:rPr b="1" lang="en-US" sz="4400" spc="-1" strike="noStrike">
                <a:solidFill>
                  <a:srgbClr val="194431"/>
                </a:solidFill>
                <a:latin typeface="Book Antiqua"/>
              </a:rPr>
              <a:t>Minimum </a:t>
            </a:r>
            <a:r>
              <a:rPr b="1" lang="en-US" sz="3600" spc="-1" strike="noStrike">
                <a:solidFill>
                  <a:srgbClr val="194431"/>
                </a:solidFill>
                <a:latin typeface="Book Antiqua"/>
              </a:rPr>
              <a:t>SLIDE REQUIREMENTS:</a:t>
            </a:r>
            <a:endParaRPr b="0" lang="en-US" sz="36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80520" y="19810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Slide 1: Introductory slide: your name, the article’s citation, headline &amp; date,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Slides 2: Rationale: Why you picked this topic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Slides 3-4: Summarize the articl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Slide 5: Relation to  Environmental Scienc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Slide 6: Closure/Extens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5T19:21:40Z</dcterms:created>
  <dc:creator>Preferred Customer</dc:creator>
  <dc:description/>
  <dc:language>en-US</dc:language>
  <cp:lastModifiedBy>Johnson</cp:lastModifiedBy>
  <cp:lastPrinted>2012-09-25T19:36:00Z</cp:lastPrinted>
  <dcterms:modified xsi:type="dcterms:W3CDTF">2012-09-25T19:36:10Z</dcterms:modified>
  <cp:revision>41</cp:revision>
  <dc:subject/>
  <dc:title>How to do the Graphic Organizer for Dr. Griffith</dc:title>
</cp:coreProperties>
</file>